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2D9-3AD4-4040-B807-73B50C08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EE0-4086-4880-B970-5A2D710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B92-83DA-434E-9BC1-20FE188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839-9A18-43CD-AD4E-8FE5D1EA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93D-11B7-44C5-B170-63ACBFC5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ABAA-B812-4CC5-BFB5-A46AA6EC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13F9-EF88-484B-AC66-7922FC1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F721-BDDB-4FC9-9BAC-36C9A72E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243E-D6C9-4D7A-8BF2-3F700CD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1DA8-F7FD-4718-92C7-09081381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B99-9572-492F-A377-6098D3F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1FB-A35C-4878-A11C-2FD9DCAC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4D69-E258-4A58-A184-CE5CB65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A4E7-CFCB-4E95-AEF7-8C5265E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39E3-EDF1-4674-B280-4B979E1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BC76-51B1-4318-920F-98D503BC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24B-139B-490B-AC8E-9AC9519B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531-642D-44ED-A686-95ECF676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C25-65D0-45BC-A8A4-6473CF4C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ED3-F116-4803-A1C4-5F808FF5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0A8-9338-4E74-83CA-6A6F748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FB9-B018-48B1-BA90-3DB2A86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ABA-89D7-4541-B133-5574B37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6C9-E066-4C62-87C9-145E03F0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535720"/>
            <a:ext cx="1066680" cy="1017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226-F00F-4ED9-9A57-6866DA6F877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C48-09F4-4B0C-AE7C-02AF387904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teksti.jpg"/>
          <p:cNvPicPr/>
          <p:nvPr/>
        </p:nvPicPr>
        <p:blipFill>
          <a:blip r:embed="rId3"/>
          <a:stretch/>
        </p:blipFill>
        <p:spPr>
          <a:xfrm>
            <a:off x="417600" y="6215040"/>
            <a:ext cx="28749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PPT_kansilogo.jpg"/>
          <p:cNvPicPr/>
          <p:nvPr/>
        </p:nvPicPr>
        <p:blipFill>
          <a:blip r:embed="rId2"/>
          <a:stretch/>
        </p:blipFill>
        <p:spPr>
          <a:xfrm>
            <a:off x="1600200" y="533520"/>
            <a:ext cx="612936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A47-26E1-4FD2-8EB1-1A36F6EFC3D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D27-F980-4E8D-BCF0-5AA6E4E650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officair-project.eu/" TargetMode="External"/><Relationship Id="rId3" Type="http://schemas.openxmlformats.org/officeDocument/2006/relationships/hyperlink" Target="http://fi.opasnet.org/fi/Officair_Suomi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atti.peltonen@thl.fi" TargetMode="External"/><Relationship Id="rId2" Type="http://schemas.openxmlformats.org/officeDocument/2006/relationships/hyperlink" Target="http://fi.opasnet.org/fi/Officair_Suomi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fficair-survey.eu/index.php?sid=34779&amp;lang=fi" TargetMode="External"/><Relationship Id="rId2" Type="http://schemas.openxmlformats.org/officeDocument/2006/relationships/hyperlink" Target="http://officair-survey.eu/index.php?sid=34779&amp;lang=fi" TargetMode="External"/><Relationship Id="rId3" Type="http://schemas.openxmlformats.org/officeDocument/2006/relationships/hyperlink" Target="http://officair-survey.eu/index.php?sid=34779&amp;lang=fi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979640" y="3645000"/>
            <a:ext cx="51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 the reduction of health effects from combined exposure to indoor pollutants in Modern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Calibri"/>
                <a:hlinkClick r:id="rId2"/>
              </a:rPr>
              <a:t>http://www.officair-project.eu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Calibri"/>
                <a:hlinkClick r:id="rId3"/>
              </a:rPr>
              <a:t>http://fi.opasnet.org/fi/Officair_Su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Serena\Documents\P 2010 OFFICAIR\2011 Protocol\Questionnaire\PPT invito\eu-flag.gif"/>
          <p:cNvPicPr/>
          <p:nvPr/>
        </p:nvPicPr>
        <p:blipFill>
          <a:blip r:embed="rId4"/>
          <a:stretch/>
        </p:blipFill>
        <p:spPr>
          <a:xfrm>
            <a:off x="1692360" y="333360"/>
            <a:ext cx="1036440" cy="6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Serena\Documents\P 2010 OFFICAIR\2011 Protocol\Questionnaire\PPT invito\fp7-small_en.gif"/>
          <p:cNvPicPr/>
          <p:nvPr/>
        </p:nvPicPr>
        <p:blipFill>
          <a:blip r:embed="rId5"/>
          <a:stretch/>
        </p:blipFill>
        <p:spPr>
          <a:xfrm>
            <a:off x="6084720" y="333360"/>
            <a:ext cx="878040" cy="80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5084640"/>
            <a:ext cx="820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fficair- tutkimusryh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tti Peltonen, Otto Hänninen, Arja Asika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374-C1D2-4125-B8B0-CE1B54A4EA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7C3E1-1A78-4250-9759-541F6B187B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tallen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19600" y="2473200"/>
            <a:ext cx="4392360" cy="351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149720"/>
            <a:ext cx="1152720" cy="216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771640" y="1773360"/>
            <a:ext cx="1944720" cy="2303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240" y="13604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 haluat jatkaa vastaamista myöhemmin, kyselyn voit tallentaa painamalla sivun alareunassa oleva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tka myöhem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653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iltä pyydetään tallennukselle nimi, salasana sekä sähköpostiosoite, jotta voimme jakaa teille keskenjääneen kyselyn sähköpostii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4076640"/>
            <a:ext cx="2016000" cy="10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64000" y="4869000"/>
            <a:ext cx="165564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91040" y="58910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lennuksen jälkeen teille lähetetään sähköpostiin linkki, jonka avaamalla voitte jatkaa kyselyn täyttämis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53D-989C-4EC9-B529-2008627B79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E9E54-7385-4C27-ADF2-7DFE918A13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lähettä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976720" cy="477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87800" y="4597560"/>
            <a:ext cx="576000" cy="21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08360" y="2349360"/>
            <a:ext cx="2592360" cy="2232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413000"/>
            <a:ext cx="22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äytetty kysely lähetetään viimeisellä sivulla olevas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ähet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painikke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800440"/>
            <a:ext cx="57636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508720" y="2276640"/>
            <a:ext cx="792000" cy="57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2924280"/>
            <a:ext cx="269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kista ennen kyselyn lähettämistä, näkyykö jokin kyselyn osio keltaisella sivun oikean yläreunan hakemisto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 jokin osio on keltaisella, tarkoittaa se että et ole vastannut yhteen tai useampaan osion kysymyk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EEA-1DF7-4BBB-8E9F-360CDA506D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51921-F734-4FB2-9EBC-351F180194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hdään yhdessä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KIMUKSEN ONNISTUMINEN ON KIINNI MEISTÄ KAIKIS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yttäjäkyselystä tulee sitä kattavampi että luotettavampi, mitä enemmän saamme vastauksia rakennuksestanne. Toivomme siis, että jokainen rakennuksentyöntekijä vastaisi kysely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rveyttä ja viihtyvyyttä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ti Peltonen, 020 6106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matti.peltonen@th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fi.opasnet.org/fi/Officair_Su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C6D-7C63-4C86-A5AA-27EA93E4ED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004CE-14C1-415F-B382-9EDD86D0A3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ohdant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fficair on EU:n tutkimuksen 7. puiteohjelman rahoittama hanke, jossa kartoitetaan Euroopan laajuisesti modernien toimistorakennuksien sisäilmaa, sen yhteyttä terveyt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arkoituksena tutkimuksessa on löytää tekijät, jotka saavat meidät tuntemaan rakennuksen terveelliseksi ja miellyttäväksi käyttä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tkimus koostu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- Käyttäjäkysely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- Rakennuskatselmukse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6AD-A6F5-446A-95B0-E0F8210C07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51611-D261-4F62-9573-187D759CE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utkimuksessa muka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95" name="Picture 2" descr="C:\Users\Serena\Documents\P 2010 OFFICAIR\2011 Protocol\Questionnaire\PPT invito\universitaInterno.jpg"/>
          <p:cNvPicPr/>
          <p:nvPr/>
        </p:nvPicPr>
        <p:blipFill>
          <a:blip r:embed="rId1"/>
          <a:stretch/>
        </p:blipFill>
        <p:spPr>
          <a:xfrm>
            <a:off x="4037040" y="5862600"/>
            <a:ext cx="129528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Serena\Documents\P 2010 OFFICAIR\2011 Protocol\Questionnaire\PPT invito\logo-TNO.gif"/>
          <p:cNvPicPr/>
          <p:nvPr/>
        </p:nvPicPr>
        <p:blipFill>
          <a:blip r:embed="rId2"/>
          <a:stretch/>
        </p:blipFill>
        <p:spPr>
          <a:xfrm>
            <a:off x="1157400" y="5935680"/>
            <a:ext cx="1592280" cy="28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Serena\Documents\P 2010 OFFICAIR\2011 Protocol\Questionnaire\PPT invito\THL_logo.jpg"/>
          <p:cNvPicPr/>
          <p:nvPr/>
        </p:nvPicPr>
        <p:blipFill>
          <a:blip r:embed="rId3"/>
          <a:stretch/>
        </p:blipFill>
        <p:spPr>
          <a:xfrm>
            <a:off x="1476360" y="3357720"/>
            <a:ext cx="5616720" cy="100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Serena\Documents\P 2010 OFFICAIR\2011 Protocol\Questionnaire\PPT invito\cstb.jpg"/>
          <p:cNvPicPr/>
          <p:nvPr/>
        </p:nvPicPr>
        <p:blipFill>
          <a:blip r:embed="rId4"/>
          <a:stretch/>
        </p:blipFill>
        <p:spPr>
          <a:xfrm>
            <a:off x="6342120" y="4854600"/>
            <a:ext cx="958680" cy="3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Serena\Documents\P 2010 OFFICAIR\2011 Protocol\Questionnaire\PPT invito\elte.jpg"/>
          <p:cNvPicPr/>
          <p:nvPr/>
        </p:nvPicPr>
        <p:blipFill>
          <a:blip r:embed="rId5"/>
          <a:stretch/>
        </p:blipFill>
        <p:spPr>
          <a:xfrm>
            <a:off x="4037040" y="471168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Serena\Documents\P 2010 OFFICAIR\2011 Protocol\Questionnaire\PPT invito\FEUP.jpg"/>
          <p:cNvPicPr/>
          <p:nvPr/>
        </p:nvPicPr>
        <p:blipFill>
          <a:blip r:embed="rId6"/>
          <a:srcRect l="0" t="0" r="0" b="50024"/>
          <a:stretch/>
        </p:blipFill>
        <p:spPr>
          <a:xfrm>
            <a:off x="1162080" y="4719600"/>
            <a:ext cx="121932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Serena\Documents\P 2010 OFFICAIR\2011 Protocol\Questionnaire\PPT invito\west macedonia.jpg"/>
          <p:cNvPicPr/>
          <p:nvPr/>
        </p:nvPicPr>
        <p:blipFill>
          <a:blip r:embed="rId7"/>
          <a:srcRect l="0" t="0" r="55579" b="15695"/>
          <a:stretch/>
        </p:blipFill>
        <p:spPr>
          <a:xfrm>
            <a:off x="6342120" y="5791320"/>
            <a:ext cx="1687320" cy="47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148428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kimus tullaan toteuttamaan kahdeksassa eri Euroopan maassa, mukana tutkimuksessa on useita yliopistoja ja tutkimuslaitoksia. Suomen osalta tutkimuksesta vastaa Terveyden ja hyvinvoinnin la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342-B58B-4006-93A4-B0832370A0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11EDF-3F5E-4FBF-B9FA-0E764034E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idän rakennuks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omesta tutkimukseen on lähtenyt mukaan 21 toimistorakennusta, kahdeksasta eri kaupungista. Teidän rakennuksenne on yksi tutkimuksessa mukana olevista rakennuks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tkimukseen on valittu mukaan pääasiassa toimistorakennuksia, jotka esittävät viimeaikaisinta toimistorakentamista Suome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033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478-FCD7-474D-95A3-D690391D27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568E4-7E62-4A5B-9828-506025A493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äyttäjäkys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Tutkimuksen online -käyttäjäkysely jaetaan jokaiselle rakennuksessa työskentelevälle sähköpostin välityksell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ähköpostista löytyvät yksityiskohtaisemmat tiedot tutkimuksesta, sekä linkki käyttäjäkyselyy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Kysely on nimetön, eikä se sisällä henkilön tunnistamiseen liittyviä tietoja. Osallistuminen kyselyyn on vapaaehtoin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801-05B7-4EE6-8F99-0DEF99EA9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92ACB-AB93-4078-AF6B-D853A22844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omioitavia asioi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yselylomake sulkeutuu 90 minuutin jälkeen kyselyn aloittamisesta tietosuojan varmistamiseksi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ISTAKAA TALLENTAA KYSELY, jos joudutte keskeyttämään kyselyn täyttämisen jostain syyst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Rakennuskoodi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, rakennuskohtainen tunnus joka teille on lähetetty käyttäjäkysely sähköpost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officair-survey.eu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/index.php?sid=34779&amp;lang=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D20-A219-49A3-AE1D-198CC7ED96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5134-409D-4656-A066-9CB0E42DB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4032000" cy="3227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n aloitussiv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4032000" cy="310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1773360"/>
            <a:ext cx="3456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itussivulla kerrotaan tarkemmin käyttäjäkyselyst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ä kyselyssä tullaan kysymää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yselyn tarkoi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ttamuksellisu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CDD-6BD4-4464-94AE-71BE745E5E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90C39-9349-47EF-866E-A36126CBAB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6048360" cy="484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n aloitussiv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013360"/>
            <a:ext cx="100800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564000" y="2565360"/>
            <a:ext cx="2663640" cy="2448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91280" y="1557360"/>
            <a:ext cx="295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itussivulta itse kyselyyn pääsee painamall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uraav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painiket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vun ylä- ja alareunassa olevista maiden lipuista voit tarvittaessa vaihtaa kyselyssä käytettävän kie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2E9-F017-4D05-A455-BA834F06B6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3162B-7A04-459B-BD49-3F5A469DB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Rakennustunn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976720" cy="478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 flipV="1">
            <a:off x="1979640" y="4221000"/>
            <a:ext cx="460836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1484280"/>
            <a:ext cx="2376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kennuskoodia kysyttäessä tulee kohtaan täyttää sähköpostissa saatu rakennustun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ÄMÄN RAKENNUKSEN TUNNU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FI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uksen syötettyä paina Seuraava –näppäintä, jolloin aukeaa varsinainen kys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2600" y="446868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3300"/>
                </a:solidFill>
                <a:latin typeface="Arial"/>
              </a:rPr>
              <a:t>FI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221000"/>
            <a:ext cx="107964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4480" y="4743360"/>
            <a:ext cx="863640" cy="360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4653000"/>
            <a:ext cx="107964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50028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35C-F61E-4D79-ACD1-100E1F4941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8D8A-F81F-4547-8FC6-687E1E31C6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2:22:49Z</dcterms:created>
  <dc:creator>Stakes</dc:creator>
  <dc:description/>
  <dc:language>en-US</dc:language>
  <cp:lastModifiedBy>mpng</cp:lastModifiedBy>
  <dcterms:modified xsi:type="dcterms:W3CDTF">2011-11-28T10:21:28Z</dcterms:modified>
  <cp:revision>15</cp:revision>
  <dc:subject>suomi</dc:subject>
  <dc:title>Otsikko, Arial 34pt Bold</dc:title>
</cp:coreProperties>
</file>